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005E-8D57-4DDF-9818-AA5685B2A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626A-62EC-46FA-9632-67D12508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DA6E-CC0D-42F3-8899-54FD96031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2F68-4BD5-4629-AD24-BCFF5D2D9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F16B-64E7-491E-9ABD-B9AFC3CD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A7F3-E626-448B-B79A-F3FD9748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9474-8968-4067-A83B-45BC75C5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1A2C-9FD9-49F3-9F85-5AA43128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95F4-791A-4CB2-B68F-1BA15F92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2037-BDC0-4D34-87D5-3D9B5056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9FC7-915E-49DB-88DF-9E9ED7FA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D86E-529F-4E14-8438-632C9591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28E3-434E-475B-B3E0-DA514B8E956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KYE Storage Facilities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amount of water we are going to supply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 uses about 212L of water a day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amily of 2 adults and 2 children will use 212L*3(2 children use 212L)=636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36L-100L(washing machine)-240L(Bath)-40L(2 times of washing dishes)= 260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 families will use 260L*50=13000L a day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000L*14=182000L for two weeks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3714840" cy="42102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Container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51280" y="1413000"/>
            <a:ext cx="48355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pe- Cylinder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ot fragile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ylinder’s TSA calculation metho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πr^2 + 2πrh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πr(r+2h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A of the water container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058760"/>
                <a:gridCol w="1060560"/>
                <a:gridCol w="1200240"/>
                <a:gridCol w="1377720"/>
                <a:gridCol w="1819440"/>
                <a:gridCol w="1712880"/>
              </a:tblGrid>
              <a:tr h="97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Radius(m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Height(m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TSA(m^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Volume(m^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Concrete floor($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Total Cost($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3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1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51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4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2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20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49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6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3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57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9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3.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46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72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2.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2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62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94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2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81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13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stification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ible heigh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Using 2m as the radius of th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er gives us the cheapest cost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if we use 2m as the radius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ater container, the height is to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. (14.5m is about the height of th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floor of an apartment.) Thus w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se stability rather than cheap cost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decided to use 3m as the radius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stification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concrete floor, we added 1m margin for every side to make people easy to step on it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s are rounded up to the nearest whole number- To show the clear differences between valu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4457520" cy="39528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Decision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427280" y="1341360"/>
            <a:ext cx="42591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ight- 6.5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us-3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me- about 182m^3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of cylinder- $2507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of cement floor-$320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cost- $5707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od(=grain) Containe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uch food do we have to supply?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dult- eats about 0.25kg of rice a da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ild- Assume that a child will eat the half of the amount an adult eats a da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amily(2 adults, 2 kids)-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ts about 0.8kg of rice a da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 families for 2 weeks- 0.8kg*50*14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560kg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d container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5112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pe= Rectangula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pris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cm^3= 1ml= 1g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∴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kg= 1000cm^3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∴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0kg= 560000cm^3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= 0.56m^3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1"/>
          <a:stretch/>
        </p:blipFill>
        <p:spPr>
          <a:xfrm>
            <a:off x="4788000" y="1916280"/>
            <a:ext cx="401940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A of the container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68360" y="2205000"/>
          <a:ext cx="8229600" cy="3019320"/>
        </p:xfrm>
        <a:graphic>
          <a:graphicData uri="http://schemas.openxmlformats.org/drawingml/2006/table">
            <a:tbl>
              <a:tblPr/>
              <a:tblGrid>
                <a:gridCol w="882720"/>
                <a:gridCol w="884160"/>
                <a:gridCol w="1000080"/>
                <a:gridCol w="1149480"/>
                <a:gridCol w="1515960"/>
                <a:gridCol w="1428840"/>
                <a:gridCol w="1368360"/>
              </a:tblGrid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Length(m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Width(m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Height(m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TSA(m^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Volume(m^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Concrete floor($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Total cost($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3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0.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3.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0.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5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5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0.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3.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0.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3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4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stification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ible shap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We chose rectangular prism for th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pe of the container, because th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 of rice is shaped like a rectangl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ith smoother edges). Sin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tangular shape is easy to conta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tangular objects, the pack of rice wil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 easily in the rectangular shap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er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stification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nded up to the nearest whole number- Shows a clear change between two values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floor- Water container needs a steel floor to contain water (liquid), but steel floor is not needed to contain rice (solid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concrete floor, we only added 0.5m margin each for every side, since the size of the container is very small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decision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gth, height= 1m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th= 0.56m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floor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me= 0.56m^3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of the prism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5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of the concrete floor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399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cost≒ $4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Picture 8" descr=""/>
          <p:cNvPicPr/>
          <p:nvPr/>
        </p:nvPicPr>
        <p:blipFill>
          <a:blip r:embed="rId1"/>
          <a:stretch/>
        </p:blipFill>
        <p:spPr>
          <a:xfrm>
            <a:off x="4932360" y="2276640"/>
            <a:ext cx="3600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edu.me.go.kr/env2/index.htm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ipco.com.sg/watter.ht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piedmontsub.com/Gville.shtm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foodmixers.com/models_vessels.as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ormation about wate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68360" y="2205000"/>
          <a:ext cx="8229600" cy="1454040"/>
        </p:xfrm>
        <a:graphic>
          <a:graphicData uri="http://schemas.openxmlformats.org/drawingml/2006/table">
            <a:tbl>
              <a:tblPr/>
              <a:tblGrid>
                <a:gridCol w="1957320"/>
                <a:gridCol w="1030320"/>
                <a:gridCol w="1031760"/>
                <a:gridCol w="1030320"/>
                <a:gridCol w="1032120"/>
                <a:gridCol w="1190520"/>
                <a:gridCol w="9572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Swi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Jap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Germa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Netherla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Ko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Amount of water(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4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3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3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 Box 93"/>
          <p:cNvSpPr/>
          <p:nvPr/>
        </p:nvSpPr>
        <p:spPr>
          <a:xfrm>
            <a:off x="468360" y="3716280"/>
            <a:ext cx="8280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 chart from Ministry of Environment of Kore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edu.me.go.kr/env2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olume of water - 1ml = 1cm^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on about ric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dult eats approximately 220g of rice a day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olume of cooked rice is twice bigger than raw rice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me of rice- 1g = 1cm^3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container in real lif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5733720"/>
            <a:ext cx="8291520" cy="3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ipco.com.sg/watter.htm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piedmontsub.com/Gville.shtm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" name="Picture 4" descr="Water_Tank1"/>
          <p:cNvPicPr/>
          <p:nvPr/>
        </p:nvPicPr>
        <p:blipFill>
          <a:blip r:embed="rId1"/>
          <a:stretch/>
        </p:blipFill>
        <p:spPr>
          <a:xfrm>
            <a:off x="250920" y="1341360"/>
            <a:ext cx="4905360" cy="4203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GvilleSteelWaterTank"/>
          <p:cNvPicPr/>
          <p:nvPr/>
        </p:nvPicPr>
        <p:blipFill>
          <a:blip r:embed="rId2"/>
          <a:stretch/>
        </p:blipFill>
        <p:spPr>
          <a:xfrm>
            <a:off x="5580000" y="1341360"/>
            <a:ext cx="2359080" cy="40784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4932360" y="5661000"/>
            <a:ext cx="37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5435640" y="5734080"/>
            <a:ext cx="28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cylindrical sh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d container in real lif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5733720"/>
            <a:ext cx="8229600" cy="3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foodmixers.com/models_vessels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6" name="Picture 7" descr="vessel_portable"/>
          <p:cNvPicPr/>
          <p:nvPr/>
        </p:nvPicPr>
        <p:blipFill>
          <a:blip r:embed="rId1"/>
          <a:stretch/>
        </p:blipFill>
        <p:spPr>
          <a:xfrm>
            <a:off x="5219640" y="1700280"/>
            <a:ext cx="2438640" cy="3333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vessels_vertical_multiple"/>
          <p:cNvPicPr/>
          <p:nvPr/>
        </p:nvPicPr>
        <p:blipFill>
          <a:blip r:embed="rId2"/>
          <a:stretch/>
        </p:blipFill>
        <p:spPr>
          <a:xfrm>
            <a:off x="1042920" y="1916280"/>
            <a:ext cx="3333960" cy="28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ulations and Designs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er Containe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uch water are we using per day?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wer- 30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th- 80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 Machine- 100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 Dishes-20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nking Water- about 2.6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shing Toilet- 10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9T15:28:49Z</dcterms:created>
  <dc:creator>LGE</dc:creator>
  <dc:description/>
  <dc:language>en-US</dc:language>
  <cp:lastModifiedBy>Yeon_Jee_Choi</cp:lastModifiedBy>
  <dcterms:modified xsi:type="dcterms:W3CDTF">2008-12-01T06:09:59Z</dcterms:modified>
  <cp:revision>19</cp:revision>
  <dc:subject/>
  <dc:title>SKYE Storage Facilities</dc:title>
</cp:coreProperties>
</file>